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05F-B103-4687-8F78-01DF2615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441-D4AE-4531-AA04-40E3929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99D-D4C6-41AE-80B7-1826BF15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85F-BA83-480E-BE7C-458E12C4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CDA-15D7-42D3-9816-E87142B3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4F4-E754-4DCF-9108-EF56C044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FFE-5BFF-42E1-932A-E328A19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37F-B550-45E5-A84D-55874D66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6B4-C033-4CC8-A903-C4E8BE6F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1DA-BE0F-464E-9313-1C0F8E7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777-3573-4CF5-A361-ED3A21DB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292-04D4-45BB-B8AA-CD96035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264A-E08F-49D1-8B35-0057D8E69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 FR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4191120" y="365760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13516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98108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51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85944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6705720" y="6095880"/>
            <a:ext cx="76176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944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497480" y="5486400"/>
            <a:ext cx="61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762120" y="2057400"/>
            <a:ext cx="3124080" cy="3124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362320" y="2057400"/>
            <a:ext cx="144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2351160" y="3581280"/>
            <a:ext cx="1535040" cy="160020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5486400" y="2133720"/>
            <a:ext cx="3124080" cy="3124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7086600" y="2133720"/>
            <a:ext cx="144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3"/>
          <p:cNvSpPr/>
          <p:nvPr/>
        </p:nvSpPr>
        <p:spPr>
          <a:xfrm rot="16200000">
            <a:off x="2328840" y="2090520"/>
            <a:ext cx="1600200" cy="153324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7075440" y="3657600"/>
            <a:ext cx="1535040" cy="160020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5"/>
          <p:cNvSpPr/>
          <p:nvPr/>
        </p:nvSpPr>
        <p:spPr>
          <a:xfrm rot="16200000">
            <a:off x="7053120" y="2166480"/>
            <a:ext cx="1600200" cy="153360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486400" y="37339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5867280" y="2666880"/>
            <a:ext cx="22860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019920" y="2590920"/>
            <a:ext cx="213336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40:09Z</dcterms:created>
  <dc:creator>Chelle Daniels</dc:creator>
  <dc:description/>
  <dc:language>en-US</dc:language>
  <cp:lastModifiedBy>Chelle Daniels</cp:lastModifiedBy>
  <dcterms:modified xsi:type="dcterms:W3CDTF">2012-04-16T13:46:54Z</dcterms:modified>
  <cp:revision>2</cp:revision>
  <dc:subject/>
  <dc:title>Slide 1</dc:title>
</cp:coreProperties>
</file>